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80513" cy="1115695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ECC-E7FF-4C60-8409-E8B3139C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B56-CF96-4786-8EB1-47575345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2D0-B320-4C93-B9D9-73E36793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6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4584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90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6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4584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0DC-DB99-4838-8D09-1046B804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220-9972-489D-A4BA-9EE15B91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907-AA62-4C61-98E9-2DB060F5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C38-7B6C-4F5B-BDBD-2CBD7A57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B03-79D6-4826-AAD9-2CE2884E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9000" y="444960"/>
            <a:ext cx="8261640" cy="86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A42-4F92-4EEF-A762-BD717345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941-DB46-4B17-AEDE-FBD891B5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3AC-30A2-4D49-B9A1-E5A1660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BA5-1992-4B54-9BE1-870B9C9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90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37040" y="10164600"/>
            <a:ext cx="29066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786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fld id="{AF580648-5D48-4411-A428-3E280C405CDC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243360" cy="11156760"/>
            <a:chOff x="0" y="0"/>
            <a:chExt cx="9243360" cy="11156760"/>
          </a:xfrm>
        </p:grpSpPr>
        <p:sp>
          <p:nvSpPr>
            <p:cNvPr id="4" name=""/>
            <p:cNvSpPr/>
            <p:nvPr/>
          </p:nvSpPr>
          <p:spPr>
            <a:xfrm>
              <a:off x="3688200" y="428760"/>
              <a:ext cx="41940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xploração &amp; Produção - E&amp;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555040" y="366480"/>
              <a:ext cx="533160" cy="5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120" y="0"/>
              <a:ext cx="3467520" cy="11156760"/>
            </a:xfrm>
            <a:prstGeom prst="rect">
              <a:avLst/>
            </a:prstGeom>
            <a:solidFill>
              <a:srgbClr val="080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ctr">
              <a:noAutofit/>
            </a:bodyPr>
            <a:p>
              <a:pPr algn="ctr"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2247120"/>
              <a:ext cx="3454560" cy="3931200"/>
              <a:chOff x="0" y="2247120"/>
              <a:chExt cx="3454560" cy="3931200"/>
            </a:xfrm>
          </p:grpSpPr>
          <p:pic>
            <p:nvPicPr>
              <p:cNvPr id="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40" y="3294000"/>
                <a:ext cx="3442320" cy="27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5720" y="2247120"/>
                <a:ext cx="2328840" cy="11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320440"/>
                <a:ext cx="1834560" cy="85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240" y="2247120"/>
                <a:ext cx="1151640" cy="14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3040" y="5320440"/>
                <a:ext cx="1721160" cy="8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" name=""/>
            <p:cNvSpPr/>
            <p:nvPr/>
          </p:nvSpPr>
          <p:spPr>
            <a:xfrm>
              <a:off x="12240" y="120132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3360" y="1099584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996480" y="343080"/>
              <a:ext cx="1484640" cy="720720"/>
              <a:chOff x="996480" y="343080"/>
              <a:chExt cx="1484640" cy="720720"/>
            </a:xfrm>
          </p:grpSpPr>
          <p:pic>
            <p:nvPicPr>
              <p:cNvPr id="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1000" y="343080"/>
                <a:ext cx="433080" cy="3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996480" y="770040"/>
                <a:ext cx="1484640" cy="29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880" rIns="110880" tIns="55440" bIns="55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9520"/>
                    <a:tab algn="l" pos="2219400"/>
                    <a:tab algn="l" pos="3328920"/>
                    <a:tab algn="l" pos="4438800"/>
                    <a:tab algn="l" pos="5548320"/>
                    <a:tab algn="l" pos="6657840"/>
                    <a:tab algn="l" pos="7767720"/>
                    <a:tab algn="l" pos="8877240"/>
                    <a:tab algn="l" pos="9987120"/>
                  </a:tabLst>
                </a:pPr>
                <a:r>
                  <a:rPr b="0" i="1" lang="en-US" sz="1200" spc="-1" strike="noStrike">
                    <a:solidFill>
                      <a:srgbClr val="2f8b4e"/>
                    </a:solidFill>
                    <a:latin typeface="Arial Black"/>
                  </a:rPr>
                  <a:t>PETROBRA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38360" y="1346040"/>
            <a:ext cx="5742000" cy="68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studo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E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Campo de Albacora 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2080" y="8713800"/>
            <a:ext cx="42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9069480"/>
            <a:ext cx="57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 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2360" y="1047132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f0a7c"/>
                </a:solidFill>
                <a:latin typeface="Arial"/>
              </a:rPr>
              <a:t>Volume I/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5440" y="482292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5440" y="540396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23080" y="10402920"/>
          <a:ext cx="209088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3080" y="10402920"/>
                    <a:ext cx="2090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2-01-10T10:07:55Z</cp:lastPrinted>
  <dcterms:modified xsi:type="dcterms:W3CDTF">2002-12-18T16:26:44Z</dcterms:modified>
  <cp:revision>55</cp:revision>
  <dc:subject/>
  <dc:title>Slide sem título </dc:title>
</cp:coreProperties>
</file>